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187A9-9710-42FA-BF1F-787419258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4875-ADAC-4A94-A21D-75D382221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8BB42-783B-46EF-AFCB-97228848C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991A6-59F6-4056-8A74-3C647D09D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C601-8885-4ADD-90D3-F172BDB2B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4ECBF-C505-4076-AC66-347CEA43E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1D5A-5E27-43D4-91C3-E6CA66186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C4382-D5EF-47F9-802F-51EA9BF9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3A363-C772-4125-9829-3F34B4363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D1DE-5C9D-4804-907A-1A97D2AE6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C92C-751C-479D-B280-AA97D6BE1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9D8F-039C-46FF-A2F8-CFD675C87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6189-D087-40D0-9444-18F5F9BE89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486240" y="3255840"/>
            <a:ext cx="21715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Sesiunea iunie - iulie</a:t>
            </a:r>
            <a:endParaRPr b="0" lang="en-US" sz="20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3312"/>
            </a:gs>
            <a:gs pos="100000">
              <a:srgbClr val="ffff00"/>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8</cp:lastModifiedBy>
  <dcterms:modified xsi:type="dcterms:W3CDTF">2005-12-05T03:36:07Z</dcterms:modified>
  <cp:revision>48</cp:revision>
  <dc:subject/>
  <dc:title>SALARIUL</dc:title>
</cp:coreProperties>
</file>